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0EF5-BEFE-4425-AF29-C793A66E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241-21DD-4FED-A979-DB0B440F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F48-C5DB-4249-B730-9FB52C18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616-51F8-415B-A5A3-6349B946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079-6CC2-4143-A8B3-185EC429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A76-6D0B-4249-9C0F-6BC4A691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75F-A5A1-4A8C-9101-B3A902CF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8E2-8262-489C-9369-DF1AEFB7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4D9-C5E7-43BE-8BE5-147237A0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A5E-F0E6-43C5-AD17-D1543BC9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93B-6AF1-4193-BC7D-D140EBAF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D97-6346-4E0B-815E-6FA9C32D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BCED-0700-4E30-AA65-33CC6DEE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ebra 2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3: Addition and Subtraction of Ration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7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LCD is harder to f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x-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-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(x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(x+4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x+1)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+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-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(x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5x-20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x+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x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 (x-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1)(x+4)(x-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 (x-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(x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 (x-4)(x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+4)(x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subtra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a whole number is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2x-1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x-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x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x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nd subtracting rationa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x) = f(x) -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(x) = f(x) +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ame steps as you used with adding and subtracting rational expr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at your signs are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h(1) just means plug in x=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means solv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rational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nd subtract ration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and Subtracting fr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be able to add or subtract straight across fraction, they must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same denominat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-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with the same denomin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-1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f you can simplif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dding, if it is possible to simplify by factoring, please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x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x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(x+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+3)(x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actice with the same denominator and simplif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6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a-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a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denominators are diffe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you must find the least common denominator (LC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ach denominator in completely factored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LCD as a product of each prime factor to the highest power that appears in either denom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y = 2 * 3 * x *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CD must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3 *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D 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use the LC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D= 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rewrite the each expression so the denominator is the L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y+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4:41:35Z</dcterms:created>
  <dc:creator>nuhs</dc:creator>
  <dc:description/>
  <dc:language>en-US</dc:language>
  <cp:lastModifiedBy>nuhs</cp:lastModifiedBy>
  <dcterms:modified xsi:type="dcterms:W3CDTF">2007-09-27T19:22:28Z</dcterms:modified>
  <cp:revision>11</cp:revision>
  <dc:subject/>
  <dc:title>Algebra 2A</dc:title>
</cp:coreProperties>
</file>